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23F-1FA6-4FFB-8E1E-4EB56531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2E8-90A0-457B-9669-51141549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57B-2190-46B1-85AF-3633BBE4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EA4-C6C0-4659-A0CA-BA4D3351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327-2F57-4733-A2DA-E5B29812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1F6-5E3C-4FD4-95CB-CB55C35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0E8-0DC8-46D0-A4FA-CE1BDD90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057-7DD5-4CE9-BA3D-96EEB67A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051-7A82-4983-B87D-201E908A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E1D-7FA6-4F41-B47C-DB29A82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AE5-AE4C-4A1D-82DD-4528B7E5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707-0B45-48BE-A1BD-891C528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71A7-60FB-469F-9CAC-33FA438AE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1944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042560" y="148428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57720"/>
            <a:ext cx="1908000" cy="129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 chiama EMIGR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ndo le persone di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ese se ne vanno all’ estero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9640" y="333360"/>
            <a:ext cx="21603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vere in un altro p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6000" y="692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48360" y="549360"/>
            <a:ext cx="18003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vare 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105264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1700280"/>
            <a:ext cx="1511280" cy="144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ggire da situazio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empio guerre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1125360"/>
            <a:ext cx="8654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2133720"/>
            <a:ext cx="2808360" cy="122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 chiama EMIGR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ivano stranieri a viv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cercare 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3500280"/>
            <a:ext cx="1081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3573360"/>
            <a:ext cx="115272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Italia arriv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migra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876720" y="46530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5589720"/>
            <a:ext cx="1008000" cy="93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72360" y="4724280"/>
            <a:ext cx="216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8000" y="5661000"/>
            <a:ext cx="79200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r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042560" y="472428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229360"/>
            <a:ext cx="2195640" cy="143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i italiani sono stati emigranti in mol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esi e anche se meno di una vol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 sono anche og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68360" y="4797000"/>
            <a:ext cx="71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3860640"/>
            <a:ext cx="165564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16360" y="4724280"/>
            <a:ext cx="50328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6381720"/>
            <a:ext cx="863640" cy="476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5445000"/>
            <a:ext cx="792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4653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5013360"/>
            <a:ext cx="12952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6:10Z</dcterms:created>
  <dc:creator>PC01</dc:creator>
  <dc:description/>
  <dc:language>en-US</dc:language>
  <cp:lastModifiedBy>PC01</cp:lastModifiedBy>
  <dcterms:modified xsi:type="dcterms:W3CDTF">2016-12-05T10:24:00Z</dcterms:modified>
  <cp:revision>3</cp:revision>
  <dc:subject/>
  <dc:title>Diapositiva 1</dc:title>
</cp:coreProperties>
</file>